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81886"/>
        <c:axId val="58359535"/>
      </c:barChart>
      <c:catAx>
        <c:axId val="24081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59535"/>
        <c:crosses val="autoZero"/>
        <c:auto val="1"/>
        <c:lblAlgn val="ctr"/>
        <c:lblOffset val="100"/>
        <c:noMultiLvlLbl val="0"/>
      </c:catAx>
      <c:valAx>
        <c:axId val="5835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81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2C7-D963-4EF6-9AEB-209A1FC7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94D-624A-4915-B759-93199B5B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DDC-2054-4116-B330-04D41174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0DB-B731-48C0-BC21-E30A425F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D7-DAB4-4ACE-B25A-5FFDC64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C9E-CDEA-47DA-864A-C919C252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CDF-5E3E-46B2-A269-BE05D75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ABB-A9F8-4C04-963B-8BABCF1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2E5-91D0-46C1-8CCE-1B9BEB1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A95-A7B7-4C5F-88A0-B9CE7B5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EAA-52D3-4FED-9973-55D589AA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540-BCC9-4F2E-A5B6-ACD5E69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C7716-A62E-4549-929A-E64F780F2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