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696146"/>
        <c:axId val="43650492"/>
      </c:barChart>
      <c:catAx>
        <c:axId val="606961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650492"/>
        <c:crosses val="autoZero"/>
        <c:auto val="1"/>
        <c:lblAlgn val="ctr"/>
        <c:lblOffset val="100"/>
        <c:noMultiLvlLbl val="0"/>
      </c:catAx>
      <c:valAx>
        <c:axId val="436504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6961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760B-59A6-44B6-8310-B35F80A5A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1BD5-AF26-4BC3-A4B1-FF27FB1E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E284-1366-44D0-A485-BBB3EE11F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3DD5-85A8-4069-88F9-F83F5576A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9A16-B147-494D-9427-0FEC4D11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3B58-95F9-4975-9EF6-1974A1F6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25A0-3C60-4F32-8B8A-78DC9090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117E-EF99-4724-8872-8467F2A1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6C07-AB60-48C4-9FC7-B83ED69E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1C12-B14C-44A4-8EB4-7F4F3D16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1C93-CAAD-4484-9222-176D9FD7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3A9F-1A89-477D-90F8-C84B79F5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23873-E46C-4814-8B12-B7EC22D7D5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